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97416"/>
        <c:axId val="61686609"/>
      </c:barChart>
      <c:catAx>
        <c:axId val="19697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6609"/>
        <c:crosses val="autoZero"/>
        <c:auto val="1"/>
        <c:lblAlgn val="ctr"/>
        <c:lblOffset val="100"/>
        <c:noMultiLvlLbl val="0"/>
      </c:catAx>
      <c:valAx>
        <c:axId val="61686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7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0AD-A513-4BE2-BB4C-44A4D19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875-A8D9-4E13-B362-6EFD27B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545-F736-490E-8F62-526B6362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9A6-4F92-46BA-8165-D0F28D1C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642-969C-4DDD-BFC6-E8E5C4AD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1C3-A3EC-49FB-908E-1F4C17C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748-5CC5-4654-942C-BC74B1C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F0C-5D23-4F93-A6AA-1A6B180C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11E-A4F7-4DCC-9B3A-8B5C5C0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6EA-907D-435B-8B95-B13CDAC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AD4-DFDB-4872-B02A-13DF06F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2FD-A7FB-4893-ACB4-DB1559A9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F3068-BA61-4F99-B9A3-8E61819252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