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6277"/>
        <c:axId val="56561842"/>
      </c:barChart>
      <c:catAx>
        <c:axId val="7656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61842"/>
        <c:crosses val="autoZero"/>
        <c:auto val="1"/>
        <c:lblAlgn val="ctr"/>
        <c:lblOffset val="100"/>
        <c:noMultiLvlLbl val="0"/>
      </c:catAx>
      <c:valAx>
        <c:axId val="56561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6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9DC-F34A-43F3-A507-3AC0EC40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B6D-247E-4FFC-94DA-65F777DA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20F1-6609-4C0C-AA22-4B73A76C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74B-0E77-4A3F-B061-35FD2FA1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178-02B4-419C-9AE3-592CC320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113-1400-4B32-A7B3-39D2D287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0AC-3169-4933-991A-AF63356C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278-6BBA-44A3-9A82-573C7AAC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319-AEEA-47CC-BC8D-53FB0F97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DE3-19C7-4E90-A2CA-801321CC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51D-FB0A-4ACE-A87D-06D1BAD2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43F-DC1A-4546-9126-49FB5A92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FF453-0B81-441C-9187-2A7C4C4639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